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D1C-78E5-4CAA-99FA-30195AB64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0BBB-70CB-489C-896A-7F5FE25AD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61A1-D986-4A08-8C73-C1446BFBC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99E-C72E-4784-A9EB-AEF4D4BF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CBD-C477-4BCC-8FA8-DAEFB56C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106-9FEF-46C1-94EE-B27B187C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FC4-6E44-42DE-8136-EC9AA265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3A9-7210-406F-8D67-2BF4A727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01C-7504-445C-B0E4-C2BBA1FA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B4B-C2D9-4B39-95D3-870AD149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1022-1825-4AAD-A07C-1BE7E315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550-C5F7-499B-9D19-928B6F2E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297-EA48-4983-A23C-C71AE81B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C32-3B81-4E4C-B9D8-10F6E219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0C5-9AAC-49C9-A900-40E39E97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C066-0FEA-4658-B28D-C08CDC89F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Routers - ISR 1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1X-8PLTEPW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1X-8PLTEPWx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1X-8PLTEPWx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1X-8PLTEPx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1X-8PLTEPx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7X-8PLTE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7X-8PLTE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7X-8PLTEPx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7X-8PLTEPx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61-8PLTE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4243320" y="3556080"/>
            <a:ext cx="65736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61-8PLTE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243320" y="3556080"/>
            <a:ext cx="65736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61X-8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243320" y="3556080"/>
            <a:ext cx="65736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61X-8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4243320" y="3556080"/>
            <a:ext cx="65736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61X-8PLTE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4243320" y="3556080"/>
            <a:ext cx="65736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61X-8PLTE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4243320" y="3556080"/>
            <a:ext cx="65736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ISR C1111-4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ISR C1111-4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ISR C1111-8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ISR C1111-8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D-LTE-xx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4522680" y="3552840"/>
            <a:ext cx="9864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11-8PLTEEA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187880" y="3348000"/>
            <a:ext cx="7682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D-LTE-xx S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4425840" y="3549600"/>
            <a:ext cx="292320" cy="1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D-LTE-xx 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4522680" y="3473280"/>
            <a:ext cx="9864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SR1100-4G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4260960" y="3576600"/>
            <a:ext cx="62208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SR1100-4G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4260960" y="3576600"/>
            <a:ext cx="62208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SR1100-4GLTE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4260960" y="3576600"/>
            <a:ext cx="62208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SR1100-4GLTE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260960" y="3576600"/>
            <a:ext cx="62208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SR1100-6G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4260960" y="3576600"/>
            <a:ext cx="62208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ISR1100-6G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260960" y="3576600"/>
            <a:ext cx="62208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P-LTE18-GB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483080" y="3570120"/>
            <a:ext cx="17784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P-LTE18-GB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483080" y="3570120"/>
            <a:ext cx="177840" cy="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11-8PLTEEA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4187880" y="3348000"/>
            <a:ext cx="7682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17-4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17-4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1X-8P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1X-8P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1121X-8PLTEPW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187880" y="3556080"/>
            <a:ext cx="76824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 Newman</cp:lastModifiedBy>
  <dcterms:modified xsi:type="dcterms:W3CDTF">2021-08-27T18:01:25Z</dcterms:modified>
  <cp:revision>5</cp:revision>
  <dc:subject/>
  <dc:title>Slide 1</dc:title>
</cp:coreProperties>
</file>